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6B74-E051-4C4C-BD44-07FE1B63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1020-2892-4D1E-A358-C366583E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E227-D467-41A8-81F0-0A82215E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1693-B2EF-4FC7-AEC5-47831FA4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713-CFAB-4B15-AEC4-DE554A16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BA2C-1507-41F7-B416-64821A5C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D9C9-EF62-4B55-AC2F-F4921615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5E42-5D20-4B04-8ECC-090C7E0A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64FF-A5B8-4A6B-99E6-69FCFCD8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8EE9-B552-442E-9A49-91C82F46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347B-5F4F-4B5C-B7AF-B66F2BBB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A860-113E-4FBE-B23E-1783122A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A033-1A25-4389-9AF8-CA9F1B671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240" y="1447920"/>
            <a:ext cx="2895480" cy="32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200400" y="1295280"/>
          <a:ext cx="5791320" cy="5477040"/>
        </p:xfrm>
        <a:graphic>
          <a:graphicData uri="http://schemas.openxmlformats.org/drawingml/2006/table">
            <a:tbl>
              <a:tblPr/>
              <a:tblGrid>
                <a:gridCol w="1297080"/>
                <a:gridCol w="4494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28600" y="4114800"/>
            <a:ext cx="23288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3:09:16Z</dcterms:created>
  <dc:creator>jwilczyn</dc:creator>
  <dc:description/>
  <dc:language>en-US</dc:language>
  <cp:lastModifiedBy>jwilczyn</cp:lastModifiedBy>
  <dcterms:modified xsi:type="dcterms:W3CDTF">2005-12-15T13:12:13Z</dcterms:modified>
  <cp:revision>1</cp:revision>
  <dc:subject/>
  <dc:title>PowerPoint Presentation</dc:title>
</cp:coreProperties>
</file>