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40A-2D24-4777-A0B8-3BABC7C4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A9D-7E71-4AB3-8D22-932E99F5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D75-5342-4C60-9225-DCB1DD04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601-681B-4FC2-B479-40C9C802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093-546D-40FC-8A65-9F5589E4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ADB-D999-4DB0-985A-D38892C9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CE5-1F29-4D3D-8E14-76A65C5F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030-3432-4E85-ADFB-D9C30C20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C8C-8DA8-4F29-ACFC-AD5F8CF1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3FE-ACC3-4ED2-935A-772B2DB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210-BE8F-4D02-9648-A325562D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CA1-0C2C-4885-B60E-E645CFF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F5EE-4B72-44EB-95C2-FA14B1CDC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240" y="1447920"/>
            <a:ext cx="28954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200400" y="1295280"/>
          <a:ext cx="5791320" cy="5477040"/>
        </p:xfrm>
        <a:graphic>
          <a:graphicData uri="http://schemas.openxmlformats.org/drawingml/2006/table">
            <a:tbl>
              <a:tblPr/>
              <a:tblGrid>
                <a:gridCol w="1297080"/>
                <a:gridCol w="449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4114800"/>
            <a:ext cx="2328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09:16Z</dcterms:created>
  <dc:creator>jwilczyn</dc:creator>
  <dc:description/>
  <dc:language>en-US</dc:language>
  <cp:lastModifiedBy>jwilczyn</cp:lastModifiedBy>
  <dcterms:modified xsi:type="dcterms:W3CDTF">2005-12-15T13:12:13Z</dcterms:modified>
  <cp:revision>1</cp:revision>
  <dc:subject/>
  <dc:title>PowerPoint Presentation</dc:title>
</cp:coreProperties>
</file>