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0F7-23D4-4B30-AE0E-94D7847A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1B1-E0FE-4510-93AA-1B14C576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718-0416-46D1-AACE-AA0B5ED1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1D7-3D02-477F-A4B7-319743E7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F1F-BF6C-47D8-B7D3-FA07E49F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837-2BB0-4A49-A800-F538E539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D63-82F2-43B7-8416-D6115D10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B1C-A087-425A-A3FA-8CE1403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4A2-5F6B-4BE9-8CEC-064CFB13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9AF-AF29-41E8-94BD-A289EB49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639-331F-4613-901F-6BC6144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779-F00D-4D30-9C6D-C286EF3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2882-5D3C-48FA-BACF-F45D9B5D7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240" y="1447920"/>
            <a:ext cx="28954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200400" y="1295280"/>
          <a:ext cx="5791320" cy="5477040"/>
        </p:xfrm>
        <a:graphic>
          <a:graphicData uri="http://schemas.openxmlformats.org/drawingml/2006/table">
            <a:tbl>
              <a:tblPr/>
              <a:tblGrid>
                <a:gridCol w="1297080"/>
                <a:gridCol w="449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4114800"/>
            <a:ext cx="2328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09:16Z</dcterms:created>
  <dc:creator>jwilczyn</dc:creator>
  <dc:description/>
  <dc:language>en-US</dc:language>
  <cp:lastModifiedBy>jwilczyn</cp:lastModifiedBy>
  <dcterms:modified xsi:type="dcterms:W3CDTF">2005-12-15T13:12:13Z</dcterms:modified>
  <cp:revision>1</cp:revision>
  <dc:subject/>
  <dc:title>PowerPoint Presentation</dc:title>
</cp:coreProperties>
</file>