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9612-E664-4C83-95A5-B04F68A1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AC2-3BD4-4DC4-BFA6-48D5504A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482F-98F9-444E-A10B-670F7913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0C6-F911-4E5E-AF97-F3169B51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3C4D-D309-4044-AEB7-E77F80B5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BA93-3843-4FE0-9D04-02756EBE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D25C-5B39-4ED8-9FC2-057EC63C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249-F973-49D1-9F83-D14629F0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70A4-62B5-4AAE-8EA7-6C1EC2B2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9654-4ABB-426D-9CEE-4FAD72E9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C68-ECC9-4DAD-8218-4FA9310E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11A-1475-47AB-B2EA-9D8D4521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7D00-EB66-442F-ADD3-3B741C956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240" y="1447920"/>
            <a:ext cx="289548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200400" y="1295280"/>
          <a:ext cx="5791320" cy="5477040"/>
        </p:xfrm>
        <a:graphic>
          <a:graphicData uri="http://schemas.openxmlformats.org/drawingml/2006/table">
            <a:tbl>
              <a:tblPr/>
              <a:tblGrid>
                <a:gridCol w="1297080"/>
                <a:gridCol w="4494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4114800"/>
            <a:ext cx="23288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3:09:16Z</dcterms:created>
  <dc:creator>jwilczyn</dc:creator>
  <dc:description/>
  <dc:language>en-US</dc:language>
  <cp:lastModifiedBy>jwilczyn</cp:lastModifiedBy>
  <dcterms:modified xsi:type="dcterms:W3CDTF">2005-12-15T13:12:13Z</dcterms:modified>
  <cp:revision>1</cp:revision>
  <dc:subject/>
  <dc:title>PowerPoint Presentation</dc:title>
</cp:coreProperties>
</file>