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2CD-A1A6-4442-B92A-C3569D58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CBA-4A96-47FF-AFAF-8713601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8A4-21A8-498E-83FF-45CDA89C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8C0-FD3F-4300-B3BE-851B950F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4F1-7AD0-48B3-A753-5B65BF5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2F3-03EF-41AF-A27C-BFCC31B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DA3-68EC-42B6-9315-E972BC67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577-2DB3-445E-ABB1-BEE650F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E27-E6C2-4116-999F-986741EC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2E3-F243-4F56-A889-CB5BF219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8EF-7C4D-4A97-8817-B20FC54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CD4-C523-484B-B9AA-F8E4D19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2749-F614-4903-9C92-32DF135DD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240" y="1447920"/>
            <a:ext cx="2895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200400" y="1295280"/>
          <a:ext cx="5791320" cy="5477040"/>
        </p:xfrm>
        <a:graphic>
          <a:graphicData uri="http://schemas.openxmlformats.org/drawingml/2006/table">
            <a:tbl>
              <a:tblPr/>
              <a:tblGrid>
                <a:gridCol w="1297080"/>
                <a:gridCol w="449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4114800"/>
            <a:ext cx="232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16Z</dcterms:created>
  <dc:creator>jwilczyn</dc:creator>
  <dc:description/>
  <dc:language>en-US</dc:language>
  <cp:lastModifiedBy>jwilczyn</cp:lastModifiedBy>
  <dcterms:modified xsi:type="dcterms:W3CDTF">2005-12-15T13:12:13Z</dcterms:modified>
  <cp:revision>1</cp:revision>
  <dc:subject/>
  <dc:title>PowerPoint Presentation</dc:title>
</cp:coreProperties>
</file>